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26F-8360-4DBA-9600-E36FA175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329-4EA7-4D09-856F-CD3B78F2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B8E-4B05-4C6C-BB21-F592A5C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CAF-55A1-40D3-B8D8-6EA9424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F03-C9A1-4C1F-9A78-565B8A6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4A6-D794-417D-A2FB-58E23E06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EAF-A7A1-438F-AD30-124997D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78A-853D-480B-8D22-7599ED8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3EE-2A06-43E0-BB73-67FCF1C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21D-5DB7-45AB-AFAC-44C5B2F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B2A-5722-457E-A249-67D09344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5DD-A6FE-4A4C-8D32-A2344AD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616-E3B6-43A2-B5C5-F058D54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D88-9488-4083-88C8-6C5E574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68E-D4BE-4F95-A897-E9002244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029200"/>
            <a:ext cx="60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76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Amina &lt;3 Yo vivo en New York City. Tengo catorce años. Tengo no hermanos. Yo soy divertida y simpatica. Yo s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alacio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914400" y="5029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8380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res muy bonita.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na y @Jamie! Buenos Dias mi amig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creen Shot 2012-12-04 at 9.53.06 AM.png"/>
          <p:cNvPicPr/>
          <p:nvPr/>
        </p:nvPicPr>
        <p:blipFill>
          <a:blip r:embed="rId3"/>
          <a:stretch/>
        </p:blipFill>
        <p:spPr>
          <a:xfrm>
            <a:off x="1981080" y="2514600"/>
            <a:ext cx="655920" cy="52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creen Shot 2012-12-04 at 9.56.14 AM.png"/>
          <p:cNvPicPr/>
          <p:nvPr/>
        </p:nvPicPr>
        <p:blipFill>
          <a:blip r:embed="rId4"/>
          <a:stretch/>
        </p:blipFill>
        <p:spPr>
          <a:xfrm>
            <a:off x="1981080" y="327672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Screen Shot 2012-12-04 at 9.56.14 AM.png"/>
          <p:cNvPicPr/>
          <p:nvPr/>
        </p:nvPicPr>
        <p:blipFill>
          <a:blip r:embed="rId5"/>
          <a:stretch/>
        </p:blipFill>
        <p:spPr>
          <a:xfrm>
            <a:off x="152280" y="449568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Screen Shot 2012-12-04 at 9.53.06 AM.png"/>
          <p:cNvPicPr/>
          <p:nvPr/>
        </p:nvPicPr>
        <p:blipFill>
          <a:blip r:embed="rId6"/>
          <a:stretch/>
        </p:blipFill>
        <p:spPr>
          <a:xfrm>
            <a:off x="838080" y="4495680"/>
            <a:ext cx="655920" cy="52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hoto on 12-5-12 at 9.47 AM #4.jpg"/>
          <p:cNvPicPr/>
          <p:nvPr/>
        </p:nvPicPr>
        <p:blipFill>
          <a:blip r:embed="rId7"/>
          <a:stretch/>
        </p:blipFill>
        <p:spPr>
          <a:xfrm>
            <a:off x="152280" y="1371600"/>
            <a:ext cx="1524240" cy="101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hoto on 12-5-12 at 9.47 AM.jpg"/>
          <p:cNvPicPr/>
          <p:nvPr/>
        </p:nvPicPr>
        <p:blipFill>
          <a:blip r:embed="rId8"/>
          <a:stretch/>
        </p:blipFill>
        <p:spPr>
          <a:xfrm>
            <a:off x="152280" y="5257800"/>
            <a:ext cx="6098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6:08Z</dcterms:modified>
  <cp:revision>106</cp:revision>
  <dc:subject/>
  <dc:title>Profile</dc:title>
</cp:coreProperties>
</file>